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B054-C78B-4BBC-82FB-0FFB83EE7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61E8-E209-4BDD-910A-ECCA139A1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9E94-0E2B-4CCE-B603-0FD0B7F017A4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F48A-94B7-4084-8B9D-6D731B4C0BE7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29960" y="37656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29960" y="37656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29960" y="37656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29960" y="37656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9960" y="37656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9960" y="37656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29960" y="37656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929960" y="380880"/>
            <a:ext cx="699444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9960" y="37656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29960" y="37656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29960" y="37656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GBC PPT International 2"/>
          <p:cNvPicPr/>
          <p:nvPr/>
        </p:nvPicPr>
        <p:blipFill>
          <a:blip r:embed="rId2"/>
          <a:stretch/>
        </p:blipFill>
        <p:spPr>
          <a:xfrm>
            <a:off x="-6480" y="0"/>
            <a:ext cx="9156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spcAft>
                <a:spcPts val="876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spcAft>
                <a:spcPts val="876"/>
              </a:spcAft>
              <a:buClr>
                <a:srgbClr val="005a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876"/>
              </a:spcBef>
              <a:spcAft>
                <a:spcPts val="876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876"/>
              </a:spcBef>
              <a:spcAft>
                <a:spcPts val="876"/>
              </a:spcAft>
              <a:buClr>
                <a:srgbClr val="005a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collegeadvisor@georgebrown.ca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01680" y="27669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orge Brown Colle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00480" y="4068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Immigrant Education Depart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193032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Career and Work Counsellor Program for ITI’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tudents in this program are exposed to both individual and group career counselling theory and practice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 months of specialized English language instruction and a job placement allow students to gain Canadian experience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Length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: 16 months (4 semesters)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ship: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8 week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ing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: September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Action Button: Back or Previous 3">
            <a:hlinkClick r:id="rId1" action="ppaction://hlinksldjump"/>
          </p:cNvPr>
          <p:cNvSpPr/>
          <p:nvPr/>
        </p:nvSpPr>
        <p:spPr>
          <a:xfrm>
            <a:off x="8370720" y="6053040"/>
            <a:ext cx="541440" cy="398520"/>
          </a:xfrm>
          <a:custGeom>
            <a:avLst/>
            <a:gdLst>
              <a:gd name="textAreaLeft" fmla="*/ 25560 w 541440"/>
              <a:gd name="textAreaRight" fmla="*/ 515880 w 541440"/>
              <a:gd name="textAreaTop" fmla="*/ 25560 h 398520"/>
              <a:gd name="textAreaBottom" fmla="*/ 372960 h 398520"/>
            </a:gdLst>
            <a:ahLst/>
            <a:rect l="textAreaLeft" t="textAreaTop" r="textAreaRight" b="textAreaBottom"/>
            <a:pathLst>
              <a:path w="29339" h="21600">
                <a:moveTo>
                  <a:pt x="0" y="0"/>
                </a:moveTo>
                <a:lnTo>
                  <a:pt x="29339" y="0"/>
                </a:lnTo>
                <a:lnTo>
                  <a:pt x="29339" y="21600"/>
                </a:lnTo>
                <a:lnTo>
                  <a:pt x="0" y="21600"/>
                </a:lnTo>
                <a:close/>
              </a:path>
              <a:path fill="lightenLess" w="29339" h="21600">
                <a:moveTo>
                  <a:pt x="0" y="0"/>
                </a:moveTo>
                <a:lnTo>
                  <a:pt x="29339" y="0"/>
                </a:lnTo>
                <a:lnTo>
                  <a:pt x="27939" y="1400"/>
                </a:lnTo>
                <a:lnTo>
                  <a:pt x="1400" y="1400"/>
                </a:lnTo>
                <a:close/>
              </a:path>
              <a:path fill="darken" w="29339" h="21600">
                <a:moveTo>
                  <a:pt x="29339" y="0"/>
                </a:moveTo>
                <a:lnTo>
                  <a:pt x="29339" y="21600"/>
                </a:lnTo>
                <a:lnTo>
                  <a:pt x="27939" y="20200"/>
                </a:lnTo>
                <a:lnTo>
                  <a:pt x="27939" y="1400"/>
                </a:lnTo>
                <a:close/>
              </a:path>
              <a:path fill="darkenLess" w="29339" h="21600">
                <a:moveTo>
                  <a:pt x="29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39" y="20200"/>
                </a:lnTo>
                <a:close/>
              </a:path>
              <a:path fill="lighten" w="29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39" h="21600">
                <a:moveTo>
                  <a:pt x="7663" y="10800"/>
                </a:moveTo>
                <a:lnTo>
                  <a:pt x="21676" y="3794"/>
                </a:lnTo>
                <a:lnTo>
                  <a:pt x="2167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tional and Immigrant Edu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College Teacher Training Program for ITI’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Times New Roman"/>
              </a:rPr>
              <a:t>This program provides internationally trained teachers with the language skills, training, and Canadian experience to enable them to secure a teaching position at a community colleg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 Length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: 33 weeks (2 semesters)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ship: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42 hou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arting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: Septembe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Action Button: Back or Previous 3">
            <a:hlinkClick r:id="rId1" action="ppaction://hlinksldjump"/>
          </p:cNvPr>
          <p:cNvSpPr/>
          <p:nvPr/>
        </p:nvSpPr>
        <p:spPr>
          <a:xfrm>
            <a:off x="8370720" y="6053040"/>
            <a:ext cx="541440" cy="398520"/>
          </a:xfrm>
          <a:custGeom>
            <a:avLst/>
            <a:gdLst>
              <a:gd name="textAreaLeft" fmla="*/ 25560 w 541440"/>
              <a:gd name="textAreaRight" fmla="*/ 515880 w 541440"/>
              <a:gd name="textAreaTop" fmla="*/ 25560 h 398520"/>
              <a:gd name="textAreaBottom" fmla="*/ 372960 h 398520"/>
            </a:gdLst>
            <a:ahLst/>
            <a:rect l="textAreaLeft" t="textAreaTop" r="textAreaRight" b="textAreaBottom"/>
            <a:pathLst>
              <a:path w="29339" h="21600">
                <a:moveTo>
                  <a:pt x="0" y="0"/>
                </a:moveTo>
                <a:lnTo>
                  <a:pt x="29339" y="0"/>
                </a:lnTo>
                <a:lnTo>
                  <a:pt x="29339" y="21600"/>
                </a:lnTo>
                <a:lnTo>
                  <a:pt x="0" y="21600"/>
                </a:lnTo>
                <a:close/>
              </a:path>
              <a:path fill="lightenLess" w="29339" h="21600">
                <a:moveTo>
                  <a:pt x="0" y="0"/>
                </a:moveTo>
                <a:lnTo>
                  <a:pt x="29339" y="0"/>
                </a:lnTo>
                <a:lnTo>
                  <a:pt x="27939" y="1400"/>
                </a:lnTo>
                <a:lnTo>
                  <a:pt x="1400" y="1400"/>
                </a:lnTo>
                <a:close/>
              </a:path>
              <a:path fill="darken" w="29339" h="21600">
                <a:moveTo>
                  <a:pt x="29339" y="0"/>
                </a:moveTo>
                <a:lnTo>
                  <a:pt x="29339" y="21600"/>
                </a:lnTo>
                <a:lnTo>
                  <a:pt x="27939" y="20200"/>
                </a:lnTo>
                <a:lnTo>
                  <a:pt x="27939" y="1400"/>
                </a:lnTo>
                <a:close/>
              </a:path>
              <a:path fill="darkenLess" w="29339" h="21600">
                <a:moveTo>
                  <a:pt x="29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39" y="20200"/>
                </a:lnTo>
                <a:close/>
              </a:path>
              <a:path fill="lighten" w="29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39" h="21600">
                <a:moveTo>
                  <a:pt x="7663" y="10800"/>
                </a:moveTo>
                <a:lnTo>
                  <a:pt x="21676" y="3794"/>
                </a:lnTo>
                <a:lnTo>
                  <a:pt x="2167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tional and Immigrant Edu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Construction Management Program for ITI’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Times New Roman"/>
              </a:rPr>
              <a:t>This program provides applied education for management positions in all construction settings, including an enhanced workplace experience component to help students make a quick transition to employmen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 Length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: 12 months (3 semesters)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ship: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3-4 months (3</a:t>
            </a:r>
            <a:r>
              <a:rPr b="0" lang="en-US" sz="2400" spc="-1" strike="noStrike" baseline="30000">
                <a:solidFill>
                  <a:srgbClr val="404040"/>
                </a:solidFill>
                <a:latin typeface="Arial"/>
                <a:ea typeface="Times New Roman"/>
              </a:rPr>
              <a:t>rd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 semeste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arting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: January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Action Button: Back or Previous 3">
            <a:hlinkClick r:id="rId1" action="ppaction://hlinksldjump"/>
          </p:cNvPr>
          <p:cNvSpPr/>
          <p:nvPr/>
        </p:nvSpPr>
        <p:spPr>
          <a:xfrm>
            <a:off x="8370720" y="6053040"/>
            <a:ext cx="541440" cy="398520"/>
          </a:xfrm>
          <a:custGeom>
            <a:avLst/>
            <a:gdLst>
              <a:gd name="textAreaLeft" fmla="*/ 25560 w 541440"/>
              <a:gd name="textAreaRight" fmla="*/ 515880 w 541440"/>
              <a:gd name="textAreaTop" fmla="*/ 25560 h 398520"/>
              <a:gd name="textAreaBottom" fmla="*/ 372960 h 398520"/>
            </a:gdLst>
            <a:ahLst/>
            <a:rect l="textAreaLeft" t="textAreaTop" r="textAreaRight" b="textAreaBottom"/>
            <a:pathLst>
              <a:path w="29339" h="21600">
                <a:moveTo>
                  <a:pt x="0" y="0"/>
                </a:moveTo>
                <a:lnTo>
                  <a:pt x="29339" y="0"/>
                </a:lnTo>
                <a:lnTo>
                  <a:pt x="29339" y="21600"/>
                </a:lnTo>
                <a:lnTo>
                  <a:pt x="0" y="21600"/>
                </a:lnTo>
                <a:close/>
              </a:path>
              <a:path fill="lightenLess" w="29339" h="21600">
                <a:moveTo>
                  <a:pt x="0" y="0"/>
                </a:moveTo>
                <a:lnTo>
                  <a:pt x="29339" y="0"/>
                </a:lnTo>
                <a:lnTo>
                  <a:pt x="27939" y="1400"/>
                </a:lnTo>
                <a:lnTo>
                  <a:pt x="1400" y="1400"/>
                </a:lnTo>
                <a:close/>
              </a:path>
              <a:path fill="darken" w="29339" h="21600">
                <a:moveTo>
                  <a:pt x="29339" y="0"/>
                </a:moveTo>
                <a:lnTo>
                  <a:pt x="29339" y="21600"/>
                </a:lnTo>
                <a:lnTo>
                  <a:pt x="27939" y="20200"/>
                </a:lnTo>
                <a:lnTo>
                  <a:pt x="27939" y="1400"/>
                </a:lnTo>
                <a:close/>
              </a:path>
              <a:path fill="darkenLess" w="29339" h="21600">
                <a:moveTo>
                  <a:pt x="29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39" y="20200"/>
                </a:lnTo>
                <a:close/>
              </a:path>
              <a:path fill="lighten" w="29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39" h="21600">
                <a:moveTo>
                  <a:pt x="7663" y="10800"/>
                </a:moveTo>
                <a:lnTo>
                  <a:pt x="21676" y="3794"/>
                </a:lnTo>
                <a:lnTo>
                  <a:pt x="2167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tional and Immigrant Edu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Early Childhood Educator Bridging Program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291600" indent="-29160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Times New Roman"/>
              </a:rPr>
              <a:t>This program provides eligible applicants with the upgrading and experience to be recognized to work in Ontario as an Early Childhood Educator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291600" indent="-29160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291600" indent="-29160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 start/length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Times New Roman"/>
              </a:rPr>
              <a:t>: Ongoing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291600" indent="-29160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ebsite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Times New Roman"/>
              </a:rPr>
              <a:t>: www.aeceo.c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291600" indent="-29160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291600" indent="-29160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291600" indent="-29160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Action Button: Back or Previous 3">
            <a:hlinkClick r:id="rId1" action="ppaction://hlinksldjump"/>
          </p:cNvPr>
          <p:cNvSpPr/>
          <p:nvPr/>
        </p:nvSpPr>
        <p:spPr>
          <a:xfrm>
            <a:off x="8370720" y="6053040"/>
            <a:ext cx="541440" cy="398520"/>
          </a:xfrm>
          <a:custGeom>
            <a:avLst/>
            <a:gdLst>
              <a:gd name="textAreaLeft" fmla="*/ 25560 w 541440"/>
              <a:gd name="textAreaRight" fmla="*/ 515880 w 541440"/>
              <a:gd name="textAreaTop" fmla="*/ 25560 h 398520"/>
              <a:gd name="textAreaBottom" fmla="*/ 372960 h 398520"/>
            </a:gdLst>
            <a:ahLst/>
            <a:rect l="textAreaLeft" t="textAreaTop" r="textAreaRight" b="textAreaBottom"/>
            <a:pathLst>
              <a:path w="29339" h="21600">
                <a:moveTo>
                  <a:pt x="0" y="0"/>
                </a:moveTo>
                <a:lnTo>
                  <a:pt x="29339" y="0"/>
                </a:lnTo>
                <a:lnTo>
                  <a:pt x="29339" y="21600"/>
                </a:lnTo>
                <a:lnTo>
                  <a:pt x="0" y="21600"/>
                </a:lnTo>
                <a:close/>
              </a:path>
              <a:path fill="lightenLess" w="29339" h="21600">
                <a:moveTo>
                  <a:pt x="0" y="0"/>
                </a:moveTo>
                <a:lnTo>
                  <a:pt x="29339" y="0"/>
                </a:lnTo>
                <a:lnTo>
                  <a:pt x="27939" y="1400"/>
                </a:lnTo>
                <a:lnTo>
                  <a:pt x="1400" y="1400"/>
                </a:lnTo>
                <a:close/>
              </a:path>
              <a:path fill="darken" w="29339" h="21600">
                <a:moveTo>
                  <a:pt x="29339" y="0"/>
                </a:moveTo>
                <a:lnTo>
                  <a:pt x="29339" y="21600"/>
                </a:lnTo>
                <a:lnTo>
                  <a:pt x="27939" y="20200"/>
                </a:lnTo>
                <a:lnTo>
                  <a:pt x="27939" y="1400"/>
                </a:lnTo>
                <a:close/>
              </a:path>
              <a:path fill="darkenLess" w="29339" h="21600">
                <a:moveTo>
                  <a:pt x="29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39" y="20200"/>
                </a:lnTo>
                <a:close/>
              </a:path>
              <a:path fill="lighten" w="29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39" h="21600">
                <a:moveTo>
                  <a:pt x="7663" y="10800"/>
                </a:moveTo>
                <a:lnTo>
                  <a:pt x="21676" y="3794"/>
                </a:lnTo>
                <a:lnTo>
                  <a:pt x="2167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tional and Immigrant Edu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80960" y="1282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Research Commercialization and Innovation Graduate Certificate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Students are internationally trained individuals with Masters- or Doctorate-level qualifications, seeking to bring innovations to market through applied research and commercialization activities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Hands-on experience working on real projects with industry partners, job counselling, mentoring and networking. In class/lab learning – 42 weeks over three semester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 Length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: 12 months (3 semester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arting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: Septembe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Action Button: Back or Previous 3"/>
          <p:cNvSpPr/>
          <p:nvPr/>
        </p:nvSpPr>
        <p:spPr>
          <a:xfrm>
            <a:off x="8370720" y="6053040"/>
            <a:ext cx="541440" cy="398520"/>
          </a:xfrm>
          <a:custGeom>
            <a:avLst/>
            <a:gdLst>
              <a:gd name="textAreaLeft" fmla="*/ 25560 w 541440"/>
              <a:gd name="textAreaRight" fmla="*/ 515880 w 541440"/>
              <a:gd name="textAreaTop" fmla="*/ 25560 h 398520"/>
              <a:gd name="textAreaBottom" fmla="*/ 372960 h 398520"/>
            </a:gdLst>
            <a:ahLst/>
            <a:rect l="textAreaLeft" t="textAreaTop" r="textAreaRight" b="textAreaBottom"/>
            <a:pathLst>
              <a:path w="29339" h="21600">
                <a:moveTo>
                  <a:pt x="0" y="0"/>
                </a:moveTo>
                <a:lnTo>
                  <a:pt x="29339" y="0"/>
                </a:lnTo>
                <a:lnTo>
                  <a:pt x="29339" y="21600"/>
                </a:lnTo>
                <a:lnTo>
                  <a:pt x="0" y="21600"/>
                </a:lnTo>
                <a:close/>
              </a:path>
              <a:path fill="lightenLess" w="29339" h="21600">
                <a:moveTo>
                  <a:pt x="0" y="0"/>
                </a:moveTo>
                <a:lnTo>
                  <a:pt x="29339" y="0"/>
                </a:lnTo>
                <a:lnTo>
                  <a:pt x="27939" y="1400"/>
                </a:lnTo>
                <a:lnTo>
                  <a:pt x="1400" y="1400"/>
                </a:lnTo>
                <a:close/>
              </a:path>
              <a:path fill="darken" w="29339" h="21600">
                <a:moveTo>
                  <a:pt x="29339" y="0"/>
                </a:moveTo>
                <a:lnTo>
                  <a:pt x="29339" y="21600"/>
                </a:lnTo>
                <a:lnTo>
                  <a:pt x="27939" y="20200"/>
                </a:lnTo>
                <a:lnTo>
                  <a:pt x="27939" y="1400"/>
                </a:lnTo>
                <a:close/>
              </a:path>
              <a:path fill="darkenLess" w="29339" h="21600">
                <a:moveTo>
                  <a:pt x="29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39" y="20200"/>
                </a:lnTo>
                <a:close/>
              </a:path>
              <a:path fill="lighten" w="29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39" h="21600">
                <a:moveTo>
                  <a:pt x="7663" y="10800"/>
                </a:moveTo>
                <a:lnTo>
                  <a:pt x="21676" y="3794"/>
                </a:lnTo>
                <a:lnTo>
                  <a:pt x="2167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tional and Immigrant Edu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80960" y="1282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ost-Graduate Certificate Program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st-Graduate Certificates are short term 2 or 3 semester programs, with or without co-op, that are built on previous post-secondary stud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xamples of  Post-Graduate programs include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37"/>
              </a:spcBef>
              <a:spcAft>
                <a:spcPts val="437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ism and Behavioural Science - C405 (Full-time)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37"/>
              </a:spcBef>
              <a:spcAft>
                <a:spcPts val="437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ncial Planning - B407 (Full-time)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37"/>
              </a:spcBef>
              <a:spcAft>
                <a:spcPts val="437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uman Resources Management - B408 (Full-time)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37"/>
              </a:spcBef>
              <a:spcAft>
                <a:spcPts val="437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 Systems </a:t>
            </a:r>
            <a:r>
              <a:rPr b="0" lang="en-US" sz="1400" spc="-1" strike="noStrike">
                <a:solidFill>
                  <a:srgbClr val="0d0d0d"/>
                </a:solidFill>
                <a:latin typeface="Arial"/>
              </a:rPr>
              <a:t>Business Analyst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405 (Full-time)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37"/>
              </a:spcBef>
              <a:spcAft>
                <a:spcPts val="437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lth Informatics - T402 (Full-time)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37"/>
              </a:spcBef>
              <a:spcAft>
                <a:spcPts val="437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reless Networking - T411 (Full-time)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37"/>
              </a:spcBef>
              <a:spcAft>
                <a:spcPts val="437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lth Informatics - T402 (Full-time)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37"/>
              </a:spcBef>
              <a:spcAft>
                <a:spcPts val="437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ntal Assistant Level II Upgrade (Part-time)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37"/>
              </a:spcBef>
              <a:spcAft>
                <a:spcPts val="437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ademic Pathway for Nurses (Part-time)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37"/>
              </a:spcBef>
              <a:spcAft>
                <a:spcPts val="437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Action Button: Back or Previous 3"/>
          <p:cNvSpPr/>
          <p:nvPr/>
        </p:nvSpPr>
        <p:spPr>
          <a:xfrm>
            <a:off x="8353440" y="6026040"/>
            <a:ext cx="541440" cy="398520"/>
          </a:xfrm>
          <a:custGeom>
            <a:avLst/>
            <a:gdLst>
              <a:gd name="textAreaLeft" fmla="*/ 25560 w 541440"/>
              <a:gd name="textAreaRight" fmla="*/ 515880 w 541440"/>
              <a:gd name="textAreaTop" fmla="*/ 25560 h 398520"/>
              <a:gd name="textAreaBottom" fmla="*/ 372960 h 398520"/>
            </a:gdLst>
            <a:ahLst/>
            <a:rect l="textAreaLeft" t="textAreaTop" r="textAreaRight" b="textAreaBottom"/>
            <a:pathLst>
              <a:path w="29339" h="21600">
                <a:moveTo>
                  <a:pt x="0" y="0"/>
                </a:moveTo>
                <a:lnTo>
                  <a:pt x="29339" y="0"/>
                </a:lnTo>
                <a:lnTo>
                  <a:pt x="29339" y="21600"/>
                </a:lnTo>
                <a:lnTo>
                  <a:pt x="0" y="21600"/>
                </a:lnTo>
                <a:close/>
              </a:path>
              <a:path fill="lightenLess" w="29339" h="21600">
                <a:moveTo>
                  <a:pt x="0" y="0"/>
                </a:moveTo>
                <a:lnTo>
                  <a:pt x="29339" y="0"/>
                </a:lnTo>
                <a:lnTo>
                  <a:pt x="27939" y="1400"/>
                </a:lnTo>
                <a:lnTo>
                  <a:pt x="1400" y="1400"/>
                </a:lnTo>
                <a:close/>
              </a:path>
              <a:path fill="darken" w="29339" h="21600">
                <a:moveTo>
                  <a:pt x="29339" y="0"/>
                </a:moveTo>
                <a:lnTo>
                  <a:pt x="29339" y="21600"/>
                </a:lnTo>
                <a:lnTo>
                  <a:pt x="27939" y="20200"/>
                </a:lnTo>
                <a:lnTo>
                  <a:pt x="27939" y="1400"/>
                </a:lnTo>
                <a:close/>
              </a:path>
              <a:path fill="darkenLess" w="29339" h="21600">
                <a:moveTo>
                  <a:pt x="29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39" y="20200"/>
                </a:lnTo>
                <a:close/>
              </a:path>
              <a:path fill="lighten" w="29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39" h="21600">
                <a:moveTo>
                  <a:pt x="7663" y="10800"/>
                </a:moveTo>
                <a:lnTo>
                  <a:pt x="21676" y="3794"/>
                </a:lnTo>
                <a:lnTo>
                  <a:pt x="2167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3200" y="1480680"/>
            <a:ext cx="777240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 Requirements for Admission</a:t>
            </a:r>
            <a:br>
              <a:rPr sz="1800"/>
            </a:b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EFL – 550 for Diploma and Certificate/ post-graduate program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ELTS (ACADEMIC)  6.0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orge Brown Intensive ESL – level 8 (7 for bridging)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de 12 C or U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ure stud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(pre-admission testing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est scores are valid for two years. Requirements may vary subject to ranking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you did a grad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 level English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dit in a country where English i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common language of that country, you are subject to pre-admission testing or one of the above test scores</a:t>
            </a:r>
            <a:br>
              <a:rPr sz="1400"/>
            </a:br>
            <a:br>
              <a:rPr sz="1200"/>
            </a:br>
            <a:br>
              <a:rPr sz="1200"/>
            </a:b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104200" y="372960"/>
            <a:ext cx="6686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284640" y="2897280"/>
            <a:ext cx="289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10772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mature student status 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175068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37"/>
              </a:spcBef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19 or older and do not have an OSSD, you may apply as a mature student. 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be tested and/or interviewed to see if you meet the program prerequisites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under the age of 19 at the start of the program, you must have an OSSD or equivalent to be admitted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940040" y="374760"/>
            <a:ext cx="666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3200" y="1248840"/>
            <a:ext cx="7772400" cy="6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idging programs require proof of previous post-second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2104200" y="372960"/>
            <a:ext cx="6686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31840" y="2035080"/>
            <a:ext cx="315576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AS of Canad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tional Credential Assessment Serv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tario AgriCentr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 Stone Road West, Suite 10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elph  ON  N1G 5L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ephone:  519-763-728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ll free in Canada:  1-800-321-602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x:  519-763-696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mail: info@icascanada.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site: http://www.icascanada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3284640" y="2897280"/>
            <a:ext cx="289692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ld Education Servic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 Charles Street East, Suite 7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ronto, Ontario M4Y 1S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: 416-972-00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ll Free 1-866-343-00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x: 416-972-9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site: http://www.wes.org/ca/index.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6181560" y="4173480"/>
            <a:ext cx="2730600" cy="20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ative Education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ool of Continuing Studi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University of Toro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8 St. George Stre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ronto, Ontario M5S 2V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: 416-978-2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site: http://learn.utoronto.ca/ce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36960"/>
            <a:ext cx="777240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ential Evalu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79240" y="1944720"/>
            <a:ext cx="7947000" cy="42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All post-Secondary education (course credits, grades and GPA); verification of completion of Secondary School onl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ocument Requirements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academic documents must be received directly from the issuing institution or relevant government  authorit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CA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l and Comprehensive for Secondary and Post-Secondar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fically designed Secondary School Comprehensiv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ocument Requiremen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documents or copies certified within the last 12 months in the country of current residenc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specific jurisdictions, documents issued directly to ICAS by the institution (see website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 flipV="1" rot="10800000">
            <a:off x="1893960" y="276840"/>
            <a:ext cx="66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4000" y="39304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AT’S ON YOUR MIND?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98480" y="144288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"/>
              </a:rPr>
              <a:t>New to Canada?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1698480" y="0"/>
            <a:ext cx="69948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193032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4956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ential Evalu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4440" y="2085480"/>
            <a:ext cx="790740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S (The University of Toronto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Post-Secondary credentials for employment purposes and verification of credential equivalen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S does not provide detailed course by course evaluation at this time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cument Requirements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transcripts or photocopies are acceptable.  Original documents must be provided on demand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37"/>
              </a:spcBef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37"/>
              </a:spcBef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2022480" y="222120"/>
            <a:ext cx="652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23640" y="1258560"/>
            <a:ext cx="845964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689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will you learn?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005a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e your interviewing, networking and communication skill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005a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 and function within the workplace culture in your occupation and sector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005a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ively interact with colleagues, supervisors and cli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689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ho qualifies?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005a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ave training or experience in a specific occupation or sector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005a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ave Canadian Language Benchmark English levels between 6 and 8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005a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e a permanent resident or protected perso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5720" y="0"/>
            <a:ext cx="70358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pation Specific Language Train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SLT) 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19240" y="1195560"/>
            <a:ext cx="857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Want to improve your workplace      communication skill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Rectangle 5" descr=""/>
          <p:cNvPicPr/>
          <p:nvPr/>
        </p:nvPicPr>
        <p:blipFill>
          <a:blip r:embed="rId1"/>
          <a:stretch/>
        </p:blipFill>
        <p:spPr>
          <a:xfrm>
            <a:off x="5546880" y="1755720"/>
            <a:ext cx="363348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28440" y="-360"/>
            <a:ext cx="70722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rge Brown College                                 OSLT course offer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9800" y="142848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usiness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Times New Roman"/>
              </a:rPr>
              <a:t>                                                     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Summer and Fal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ursing 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Times New Roman"/>
              </a:rPr>
              <a:t>                                                     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June                                        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ealth Sciences                                            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Octobe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uction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Times New Roman"/>
              </a:rPr>
              <a:t>                                          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Novembe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OSLT courses are offered at our Casa Loma campus (Spadina &amp; Dupont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Content Placeholder 4"/>
          <p:cNvSpPr/>
          <p:nvPr/>
        </p:nvSpPr>
        <p:spPr>
          <a:xfrm>
            <a:off x="4863960" y="2859120"/>
            <a:ext cx="3532320" cy="22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To register, please ca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aa6"/>
                </a:solidFill>
                <a:latin typeface="Times New Roman"/>
                <a:ea typeface="Times New Roman"/>
              </a:rPr>
              <a:t>416-415-5000 x 6457  </a:t>
            </a:r>
            <a:r>
              <a:rPr b="0" lang="en-US" sz="2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or visit            </a:t>
            </a:r>
            <a:r>
              <a:rPr b="1" lang="en-US" sz="2800" spc="-1" strike="noStrike">
                <a:solidFill>
                  <a:srgbClr val="005aa6"/>
                </a:solidFill>
                <a:latin typeface="Times New Roman"/>
                <a:ea typeface="Times New Roman"/>
              </a:rPr>
              <a:t>www.co-oslt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706320" y="1344240"/>
            <a:ext cx="78012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hat are my options for upgrading to help me get into my program?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grading options inclu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Clr>
                <a:srgbClr val="005aa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programs: Community Services, Health Sciences, and Busines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Clr>
                <a:srgbClr val="005aa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Clr>
                <a:srgbClr val="005aa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L: Levels 1 – 8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Clr>
                <a:srgbClr val="005aa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Clr>
                <a:srgbClr val="005aa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ademic Upgrading for Math, English, Computer Literacy, Biology, Physics, and Chemistry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Clr>
                <a:srgbClr val="005aa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Bef>
                <a:spcPts val="561"/>
              </a:spcBef>
              <a:spcAft>
                <a:spcPts val="561"/>
              </a:spcAft>
              <a:buClr>
                <a:srgbClr val="005a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also complete high school credits at any adult high school. For more information on this, visit: http://www.tdsb.on.ca/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940040" y="374760"/>
            <a:ext cx="666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4956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 Financing your Training/ Education $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71600" y="1910880"/>
            <a:ext cx="8215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be eligible to apply for financial assistance from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tario Student Assistance Progra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SAP), you must be a: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adian citizen;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manent resident; or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ected person/convention refugee with a Protected Persons Status Document (PPSD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must be enrolled or planning to enroll in an approved post-secondary institution in a program that is 12 weeks or mo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you have lived in Canada for less than 12 consecutive months, you may be eligible for OSAP. You might have to submit 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story of Canadian Residence for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determine if you are eligible. This will help OSAP determine if you have lived in any other Canadian province or territory before you lived in Ontario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022480" y="222120"/>
            <a:ext cx="652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37920"/>
            <a:ext cx="7772400" cy="40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Questions</a:t>
            </a:r>
            <a:br>
              <a:rPr sz="9600"/>
            </a:b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 </a:t>
            </a:r>
            <a:br>
              <a:rPr sz="6000"/>
            </a:b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036880" y="235080"/>
            <a:ext cx="666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17520" y="1212480"/>
            <a:ext cx="8631360" cy="52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Times New Roman"/>
              </a:rPr>
              <a:t>A free, one-on-one, comprehensive service with the fundamental aim of assisting clients through guidance to achieve their educational goal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What are the services offered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uidanc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ferral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provisio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Entry Advi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Advising: Where can I find Advising?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190160"/>
            <a:ext cx="83818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We are open on weekdays from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9 am to 5 pm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 and have two locations to serve our client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t. James Camp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asa Loma Campu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200 King Street East, Toronto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              160 Kendal Avenue, Toront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Rm. 267D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Rm. C408, C409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y phone: 416.415.5000 ext. 2949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y e-mail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"/>
              </a:rPr>
              <a:t>collegeadvisor@georgebrown.c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Pre-booked appointments are strongly recommended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561"/>
              </a:spcBef>
              <a:spcAft>
                <a:spcPts val="561"/>
              </a:spcAft>
              <a:buClr>
                <a:srgbClr val="005a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there are BARRIERS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00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AutoShape 3"/>
          <p:cNvSpPr/>
          <p:nvPr/>
        </p:nvSpPr>
        <p:spPr>
          <a:xfrm rot="10800000">
            <a:off x="228600" y="1299960"/>
            <a:ext cx="87631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Educatio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International qualification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Canadian employers not that clued in to degrees from overse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 rot="10800000">
            <a:off x="228600" y="2334960"/>
            <a:ext cx="87631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Experienc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Too little ‘Canadian’ experience or too much experience overal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 rot="10800000">
            <a:off x="222120" y="4424040"/>
            <a:ext cx="87631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Job Search proces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Often different than how one goes about it in my home countr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 rot="10800000">
            <a:off x="228600" y="3385800"/>
            <a:ext cx="87631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Languag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Especially if English is not my first languag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/>
          <p:cNvSpPr/>
          <p:nvPr/>
        </p:nvSpPr>
        <p:spPr>
          <a:xfrm rot="10800000">
            <a:off x="225360" y="5446440"/>
            <a:ext cx="87631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Networking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Not used to i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Often new things to d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Cold Calls / Information interviews / Networking event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 I overcome these barrier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0960" y="1344600"/>
            <a:ext cx="8229600" cy="31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anadian style resum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Online job search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old call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nformation interview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Volunteering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Language class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Networking: Online and in person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dging Programs?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place Communication Courses?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1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10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Bridging Program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A bridging program allows you to make use of your education and work experience acquired abroad to enter rewarding fields in the workforce in Canad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eatur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Builds on prior educatio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Builds on prior experienc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Job placement </a:t>
            </a:r>
            <a:r>
              <a:rPr b="0" lang="en-US" sz="24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Canadian experienc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areer services to help you find a job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idging Progra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279600" y="2189160"/>
            <a:ext cx="1793880" cy="294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Barriers w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F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 rot="10800000">
            <a:off x="269640" y="1800360"/>
            <a:ext cx="1447560" cy="3657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Bridging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28"/>
          <p:cNvSpPr/>
          <p:nvPr/>
        </p:nvSpPr>
        <p:spPr>
          <a:xfrm>
            <a:off x="2879640" y="2106720"/>
            <a:ext cx="3065400" cy="110160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anadian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ight Arrow 29"/>
          <p:cNvSpPr/>
          <p:nvPr/>
        </p:nvSpPr>
        <p:spPr>
          <a:xfrm>
            <a:off x="2871720" y="3297240"/>
            <a:ext cx="3052800" cy="1081080"/>
          </a:xfrm>
          <a:prstGeom prst="rightArrow">
            <a:avLst>
              <a:gd name="adj1" fmla="val 50000"/>
              <a:gd name="adj2" fmla="val 50045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anadian credent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ight Arrow 30"/>
          <p:cNvSpPr/>
          <p:nvPr/>
        </p:nvSpPr>
        <p:spPr>
          <a:xfrm>
            <a:off x="2871720" y="4456080"/>
            <a:ext cx="3078360" cy="113364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aree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6761160" y="1906560"/>
            <a:ext cx="1906560" cy="3579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29960" y="172800"/>
            <a:ext cx="699444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BC Bridging Programs for Internationally Educated Profession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Diagram 8" descr=""/>
          <p:cNvPicPr/>
          <p:nvPr/>
        </p:nvPicPr>
        <p:blipFill>
          <a:blip r:embed="rId1"/>
          <a:stretch/>
        </p:blipFill>
        <p:spPr>
          <a:xfrm>
            <a:off x="1779480" y="1268280"/>
            <a:ext cx="578016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22:28:19Z</dcterms:created>
  <dc:creator>Surb Toor-Smith</dc:creator>
  <dc:description/>
  <dc:language>en-US</dc:language>
  <cp:lastModifiedBy>aholmes</cp:lastModifiedBy>
  <dcterms:modified xsi:type="dcterms:W3CDTF">2011-07-08T18:48:02Z</dcterms:modified>
  <cp:revision>279</cp:revision>
  <dc:subject/>
  <dc:title>Place Title Here</dc:title>
</cp:coreProperties>
</file>